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8E8-F662-45F0-8ABE-539F5800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FE9-1341-449F-97CB-FD6F80C1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8CA-0E10-41ED-8140-6648FEC9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46E-BE85-4FF9-B254-32626D31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8AC5-62D1-47DE-A5F6-EEF4E2BD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D187-A0E4-4DDB-ABE9-E32DF6AC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8008-5183-4825-A675-8F038886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E89E-DCC2-4324-8FDE-D5B4CA1A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3CF2-3046-421B-8903-6C1D9CF6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141A-1512-43B2-8718-A4D3E63A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859F-E761-413D-9012-33030F1D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AEC-AF3E-4162-8670-B8B9FA56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92ED-09E5-492B-B637-550026DE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FCF8-FFC9-40E6-81FE-39B5008F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A2E4-D771-4348-B713-F5B379D7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BDA4-12C7-41A8-8590-B5BC35F9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CCE3-06BC-4271-A39D-242FBF0E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FE8-BCE1-4D97-8B97-78CCA93C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BC6-0D0F-4A68-8E5E-956C6B10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342-59C1-412B-9B57-2B03DE4F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831-F86D-4C49-BE39-A5DD3BEF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F6E-BEA6-4E31-821F-1CB845A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391-4AB4-4007-A5BF-BA7CEC3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4FA-ADB0-4287-8A05-C94EA50E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B1A2-7C1B-4EA3-AF4E-F71908E6DE7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77BE-D85C-4B1E-B64F-84B85687478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64 bit Kogge-Stone Adders in different logic styles – A study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ob McNis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tyanand Nal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Static C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648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st case delay for the carry tree is the path for C0 as this consists entirely of inverter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st case delay distribution for the static cmos adder is shown. The mean was 144 p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input vectors (in hex)  are A=0000 0000 0000 0001 B=0000 0000 0000 0000 -&gt; 0000 0000 0000 000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4100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Static C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lay plot for a random case is show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put vectors are A=8000 0000 0000 0000 B=0000 0000 0000 0000 -&gt; 8000 0000 0000 000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933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Dynamic log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lay plot for a random case is show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put vectors are A=8000 0000 0000 0000 B=0000 0000 0000 0000 -&gt; 8000 0000 0000 000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962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wer dissip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3962520"/>
          <a:ext cx="8229240" cy="2189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tatic CM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.19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ynamic Logi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4.7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P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6.29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wer dissipation was measured for the three adders using spectre for th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novelty: Using a high VT footer to reduce leakage power in OPL gat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ded High VT footer transistor, in order to reduce leakage power in standby mode for the OPL add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oters added to the basic sub-block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VT transistor modeled by applying a negative voltage to the bulk of the footer transisto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akage power redu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0x reduction in leakage power got by using the high VT footer in the OPL adde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743200" y="3886200"/>
          <a:ext cx="4038480" cy="2244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/o high VT foo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.3 u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ith high VT foo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.54 u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1. A 0.5V, 400MHz, VDD-Hopping Processor with Zero-VTH FD-SOI Technology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iroshi Kawaguchi, Kouichi Kanda ISSCC 2003 / SESSION 6 / LOW-POWER DIGITAL TECHNIQUES / PAPER 6.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2. Output prediction logic: a high-performance CMOS design technique McMurchie, L.; Kio, S.; Yee, G.; Thorp, T.; Sechen, C.; Computer Design, 2000. Proceedings. 2000 International Conference on 17-20 Sept. 2000 Page(s):247 - 254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3. 409ps 4.7 FO4 64b adder based on output prediction logic in 0.18um CMOS Sheng Sun; Yi Han; Xinyu Guo; Kian Haur Chong; McMurchie, L.; Sechen, C.; VLSI, 2005. Proceedings. IEEE Computer Society Annual Symposium on 11-12 May 2005 Page(s):52 - 58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compare speed and power dissipation of 64-bit Kogge Stone Adder in 3 logic sty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tic CM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ynamic Log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tic Output Prediction Logic (OPL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reduce leakage power dissipation in OPL circuits using MTCMOS techniqu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Add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7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chnology used – 90nm PT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erarchical desig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erting sub-blocks (dot and square) to implement the nodes of the Kogge-Stone tre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mplement the basic sub-blocks in static, dynamic and OPL-static sty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nimal changes to the tree netlist to construct the 3 add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chematic for 16 bit adder is shown. Can be extended for a 64 bit add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238520" y="1599840"/>
            <a:ext cx="1600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8880" y="1600200"/>
            <a:ext cx="1600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ematic for 16 bit add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1746360"/>
            <a:ext cx="518184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put Prediction Logic (OPL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gic style that can be applied to different logic styles to increase spe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tains attributes of the underlying family (e.g Static, Dynamic, Pseudo-nmos et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ies on alternating nature of logical output values of a critical path, i.e, for any critical path the outputs of the gates along the paths will be alternating zeros and on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Concep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L predicts that every output will be 1 after the transitions are comple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ince all gates are inverting, the predictions will be correct one half of the time =&gt; at least 2X speedu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blem: One at the output of every inverting gate is not a stable st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307188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353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: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ri-state each gate with a clock =&gt; 1 at input and 1 output is possib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ample shown – 3 input nor gate in OPL-static, where the predicted value is a 1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K=0 =&gt; gate is tristated, with output precharged to 1.  CLK=1 =&gt; conventional CMOS g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7403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PL clocking: Chain of OPL ga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265200" cy="127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62720" y="1219320"/>
            <a:ext cx="2836800" cy="140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352680" y="2743200"/>
            <a:ext cx="29545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clock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ock separation too less =&gt; heavy glitching and precharge value lo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ock separation too large =&gt; minimal glitching, but speedup achieved is limited by the clock, not by the da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ptimal Clock separation =&gt; limited glitching and circuit is not clock-block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2:29:37Z</dcterms:created>
  <dc:creator>Satyanand Vijay Nalam</dc:creator>
  <dc:description/>
  <dc:language>en-US</dc:language>
  <cp:lastModifiedBy>Satyanand Vijay Nalam</cp:lastModifiedBy>
  <dcterms:modified xsi:type="dcterms:W3CDTF">2006-12-04T18:05:32Z</dcterms:modified>
  <cp:revision>112</cp:revision>
  <dc:subject/>
  <dc:title>64 bit Kogge-Stone Adders in different logic styles – A study</dc:title>
</cp:coreProperties>
</file>